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C6C-BDB4-4503-AE48-CEA0CA31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8AE-C569-4781-9E48-87CAD507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60CB0-06A0-4389-827D-EDECEA7F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507D7-B1E9-4929-A48B-8A445256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268B8-7D41-4DFE-A8AB-15401F3F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0DED6-252F-49E2-92E5-42BF5B29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A9F06-3D1A-47A7-A2EF-2B00B16C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DFB68-2086-45E5-B10E-D58928A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276E8-3858-415A-8FA9-4592D2C3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263BD-8DC4-4EC0-8309-36B4F4AA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94F62-FF49-45BF-8CED-240F01F6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31EFF-A034-4780-80BA-71A45802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5DA-AD41-4BF9-997E-8B64F84F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77094-1AD5-4C5A-84B6-8A925FF6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E2AFF-7233-4DCC-B7D1-69A91A2E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D96CD-4EDE-4EE4-89B6-45C3A5A0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02D9F-656A-42D6-B25D-E2A02F24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CD7EE-217E-4ABA-A4B7-BFEA3F43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F5208-5E70-4672-B5DF-1B6E3863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26105-4AA0-440A-93C4-A88C974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8E559-3EEE-4B4A-A97E-DF5DA57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BB1C7-DD6C-4DAE-84ED-82DEF914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BCF2C-CF3C-44D0-882C-99E6D566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470-BC27-4945-B83B-86EFF45B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82FE2-43A2-4F72-95A9-8C7EC87E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27F3A-375F-4C82-9D45-595EBBF2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869BE-7B8E-45F2-A8F1-0B720D03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A85F8-6014-4B92-8F6F-812E4A6E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237A2-4717-49FD-9C04-230AA678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17713-C2B9-41EA-B85D-AEC41D9E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192F8-0291-45E1-B001-06F88753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19F75-403A-4E6A-8EE4-C08C7CD2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5219A-C44F-46FD-B9F9-34BAF8F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C80B4-B653-4456-AE1C-1B1505FD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36E9-C447-4EEA-AA28-A66958D6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E85BA-81E2-4404-A334-216BA782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8CE20-6DA0-4545-855B-25267AE1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90C30-6F62-457F-B2C8-6B147D96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D3E48-A0CE-418C-ABCE-5D5656C7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2C8B8-8EF0-4B82-B20F-3C574E79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04E8C-D177-4E03-9DF7-CE004C35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55294-5FB2-4E03-81EF-CB03EC43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647FF-BB9D-4A05-9BAA-674A8E44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B66BB-5E2E-45A1-AE10-CD1DF63C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77D88-F3C7-4BB2-944C-A3D454C9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87A4-370D-46EE-9328-4C07A6F8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52810-4B79-4D72-881E-3032B5A2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A41E9-19F7-489F-81DA-CBBA85AF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2CB47-58C1-4619-A1AC-E3B85529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B31DC-2E3A-4FD7-82E7-F185EF07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2F6C6-04CD-47DB-83C9-8EEDFBB2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F92CE-ED23-45C3-B635-307BBDDB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BF111-A22D-4D16-87B4-08362440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CAFDE-87CA-4622-BE73-2C09D54B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FB1BE-EEC5-47AF-B03F-018FF00B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1B529-9646-467D-A1A3-E722DDA4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B286-3417-4753-B11F-39B0CC92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295C7-A733-4F2F-A7C1-B51C8D16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0128C-7C95-402D-B12B-9AE8778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3FBF1-7B59-4619-9F0D-12DD3B01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C8BC8-9BCB-4507-9D51-621BD40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D3737-E64E-4723-8546-F9E68D50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CF424-8D48-46B0-91A1-910460EE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84FF6-7804-4726-B255-BA2C383B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A1E48-BA98-4391-916F-D04A9A46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E19AA-6DBF-442B-A15E-45E802B1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A8C25-EA3B-498D-94EB-0CDDDDA1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B3AD-BA5C-4AC8-A159-3DFF522F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1A72A-BC40-4E88-A35F-13A519C5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5CA8C-D44E-4079-8961-B26F8AEB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212B2-69CE-4B72-AE32-3D33EA58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1A1E2-E8A4-44DA-A1A2-6D1A297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FC036-5CE1-4695-B67F-0EF4D2CE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A8F93-D37F-48CB-9E07-8566222C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C6F39-C2D5-4A27-A863-3CE89FE2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C4213-D50E-4340-951A-35DA4AE3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C9380-27BB-4EA6-B4C7-417F4C2C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6671F-B361-444F-A7FA-57E43329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36AF-C7B2-4743-B66D-5FBC85A1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11F96-637D-41CF-892E-30D9A593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13CD9-D50F-41D4-9998-9D7DCD54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3C830-5C6B-4A89-818B-EC5F03F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07712-671F-4598-A93B-858516F8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FCA9D-861C-450E-97F4-F90C71A8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A61FA-39D7-4FD1-B1C3-8967657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61586-01C8-44E2-8B27-8048E1A1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4C28D-CC64-4CF6-A842-E2415A38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4B99B-0A9E-4939-A7EF-F67D1736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338EB-7A79-4A20-B08C-5B3B5069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343E-1019-40A1-BD0A-AFBFA1CD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31652-A400-47B6-A295-141F5076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8E467-CD21-4F90-BC60-8E275F41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634C6-80CE-43EB-A31F-025F7C4D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56C07-3011-4AA3-9ABC-4EAA2E14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82974-DB4C-4BB6-8862-4DD67F12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02232-20BC-47F5-B1C7-D79B787B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807AB-AE6D-4033-A6DB-8520E2A6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758E0-A83D-4545-B72E-6505AE6C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7540B5-BE18-4417-AE86-E32DA90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EF098-51F9-4870-87A3-69D57A75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6B5-2BB3-4DD8-B603-AED2A2FE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F8675-12D9-41E1-BE06-9B98D171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2F477-F64F-4CF3-8B45-3885E791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72501-9F6B-4A91-8CF4-3E649BEE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951DB-FA73-4761-ADF6-A4E4DBF1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62542-1F54-4DF9-883F-BAB8B975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8E8D0-0A31-41C1-B566-5946C27A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46C46-8A0F-4D1D-A968-A6AC6F35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58BEB-D496-463B-AA09-1C60B1DB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92CC9-519D-434E-BF1A-D2D535BE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188C2-7AE3-43CB-AE1B-8F634F7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3CD-4D37-4FFC-8DBB-D9779B28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4BA6-CDE2-498B-971C-B74A0B56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6719C-5E92-438F-9CE1-8BC3CDCA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DDCE9-B2AB-43B3-9E10-A1204486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DA9AD-3FE3-4CF3-A2DA-50466032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EEACA-B94B-437A-A77C-F3DF1874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2A76F-6719-4CE3-B901-6DD500E6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0334A-05DD-4C69-9255-A5C9A078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FBFC77-85C3-4C23-B4CF-CCD6EEC0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A2C6B-2B2B-4F0B-8A48-96D6D34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A4F44-19F6-4A2E-8CC8-CD3AAF10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AFF54-DCE7-4356-AE94-D1BA4096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4886-8601-425C-8D4E-7F8C500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607AF3-3524-49DA-99BB-FF1D022E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FCBD3E-78E7-4BEF-A5D0-85532382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736E7-CE02-4C67-84A5-BDD3924E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7D4F2-BBFB-40E4-867A-AD943C8E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10B73-7756-41D8-A581-ED37191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44819-1388-4297-BFF9-B927C580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EF9D1-2046-4DE5-AFF5-824E3ABA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3ACC5-0CCB-4611-9667-8EC87D61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0BF134-5440-4854-9C86-147057A3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8DC42-7A25-49BE-99EF-89A7780D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FAF5-8BE2-4FF0-A0F5-6D965210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94C87-9822-44BF-BE82-A19B797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E9248-BAFA-4323-9D40-9318E3EB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F3E11-47D4-4FCE-ABF4-F6AA095A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46D50-9BBE-4B0B-A688-FC4ADE47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EF31B-3356-46F5-B6D9-C8EF58DD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703ED6-0F4E-4DE6-A174-87C2C8AC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C940B-3678-4AFF-BFDB-CA303CF3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AB08F-BFE6-4180-BD56-4FEA0030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8FE9E9-FDD4-4E3B-B8EF-755A1109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1B514-1E2A-4557-9F8B-D32A04E9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3EFD-F99F-4C6D-BBFE-82D74B99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769C71-DF23-46C5-AD92-857B3230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C8F243-C774-4809-9566-583DAA49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6A0D42-92AD-4D79-84FC-A30030C9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F3DF0-0783-4B89-8687-0D51E417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578A1-108E-4ADF-B5EF-02355F4B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CB5595-608D-4147-A87F-AB04DBBD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1BD8F5-941D-43C2-BE03-1AF93159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42B0B6-1377-4C89-9853-9D4180CA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3D162-20F5-4CD8-93CE-2B3298D7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AD779-C2BE-432F-955A-E8543C7C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2A24-87C5-4201-85FA-D8E89E8F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D1363-4124-4873-8E39-B9386254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6524E2-FAA8-473A-88F4-E6569249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8381ED-507C-4446-A4D6-B3A86BB7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4982B-2458-452B-8CBB-EF2201A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62431-7EB1-4F17-B3CB-7CDFF570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E2CC9A-AA1E-4FDB-8BAA-27CF886B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DAD1C-2720-4A09-A9DA-A5D4536D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65493-80AF-46C6-9CDD-91DE29F5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F167DD-F5D2-4DD0-8600-986D6E82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1AE496-BCE3-40C7-8223-7F34B56A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2A1C-6F7B-4947-A2F2-39356C9E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3BFAD-ECEC-4A6D-B4F9-73178360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3BD306-A522-4491-B987-A2173660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9F8AA-C3F3-4E21-A5BE-62A293C6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AAF7-78CF-4C00-8F25-D7F8E563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5AEB-94EA-4876-980C-A534C704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D357-EDFA-418C-A48C-F78296AB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2FDD-8AC4-4A09-816B-D0328399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F78-0B04-47F4-BBF1-969F9CCC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C607-A351-43F2-BEFF-5A983DBD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926E-6EDE-4957-9890-921DF5C6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D936-3438-47DA-8267-1CB64000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0275-3B9E-4A7F-B133-C7CE365D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BE7D-B6F9-47FA-B2D7-4ADE0C8B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591B-CAB4-4BFC-95A9-FBDECF89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98A6-113C-4FFA-B58B-8C227B27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EA4A9-4164-4DAA-88B8-536B2BA3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168F-EE94-4BFC-9DB5-EB2D55E2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1762-8875-469F-8213-19DAEB1C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571-B61E-4B79-A96D-1340DE41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7C55-0568-4554-93A9-2D6D57F4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44F2-BF1E-439D-BA36-63B7A90B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7C034-932A-4526-8365-06F60625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BC30-E9B2-43C4-8A59-3C9F5E5C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9C6D-992E-4A6C-AB0B-47C3D12D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52C2-1665-461F-9678-FD7AF9BA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3FC48-2CEF-4BD1-B713-D6FF7A83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17D4-B484-4CB2-A0A0-2755D1AD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0035-11FA-45E0-AE32-EC11FA9E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898B9-FB3D-451F-8242-39BE933B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2A0-3BB3-4EA2-B875-A5F3D799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9F16-955B-469A-AEF5-334DAEF1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0B741-AB0D-4C2D-89DB-6CF32B68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AC349-5B09-487A-BA5C-D38BDF4B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40E3-E297-470B-8546-7275343E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34CFB-6928-428E-8A38-135472D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915BA-AC27-4D39-8102-25B27413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3E55-709E-4C9F-9895-F6A9BBD3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A4267-C002-4CA4-A96D-9781DC2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B414-5605-43B3-AC6C-D8A666FA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6E95-E2CA-4183-9B28-4C3F6686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80D-A395-47F4-83C7-23CB88EE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CCAD8-BCF5-4250-A6A9-6DF39145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42D5F-0686-4689-840B-16535ABC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8956-6033-4864-BC17-C80CCF24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78BA2-B126-4E6A-91EA-8C9F7B3A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DA553-F113-472A-8107-1EB6171A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566B1-2B4B-41AE-8C70-4A9FFFA0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6E9A-A901-450C-9546-10299194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B9AB5-C651-40B2-BE7E-FAE00FB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A1ED2-51AD-4BBB-84AB-C43363B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6EDCB-E9DC-4552-8BAC-CA25086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248-4C22-4614-B2A8-E70F0ADE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33F5C-834D-4135-A518-3B059276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04B44-631E-49B1-97A1-626FB30D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E726E-D53C-4916-AA70-7B1C5862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B3664-5303-4B60-85A5-7F5B8C9C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F3B82-1634-4AEE-9392-3B7D9907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870B6-EACC-4AFC-98B1-A4A5E486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B18F8-B8FA-4EE3-99B2-7EAE32A1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62194-C38A-4C84-8391-57E1C517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15219-D9C2-486E-9236-D346EA48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95961-2EB4-4CAD-ACCB-FDF5837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77E-AEB5-4080-8759-65C3D1B6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7C60F-D09C-4E16-83DA-EB073B82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1F4C1-E416-4260-A7F8-12B1A71E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BFAB-71B6-4391-A1FE-D5430DE8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9A9A-39E2-408D-899D-C3EF26CD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87D63-7D5C-4439-AC37-B6DAFE37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2023-7803-495D-8857-8DDD2E8A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E8292-F59D-4781-B476-CF32C17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FA050-4191-4B4F-A718-90EBE9C4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14697-3B8A-42A0-ABD2-A845BE71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61373-85D1-40DE-8A7B-BC1C5495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EA1-032B-41CF-B298-8E663EF3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F7804-D2FE-4EB7-A673-594D1919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01207-71A7-48A1-B230-F2ED444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CA4FA-27A9-4935-BAB2-B3DAB5E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529CD-3D46-4D02-84FC-9B44F6B8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90A85-6D53-47DC-A344-5B6C7C0D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268C8-8DAE-413F-8C57-9EB0EDF7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70708-BDB6-41AE-BE7D-47268ED7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7491D-E736-41DD-A9A5-C84E4132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ED5EC-2690-4BFF-B631-D92BF0BD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50BCD-A282-497C-B60B-925F73DF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4F41-9298-4748-871B-BFF20F00D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A8DF-DD41-4156-BDC6-1B7A9C874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68FD-FFFE-4CAF-8556-2974BF67A3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23B1-2A1C-480D-AE0D-91D50CC1AA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1750-A9A2-401E-9F69-BC33DD08D3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ED25-F8F2-4297-8ECD-6C5E033AD6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7174-0CE6-44B8-B242-CF919D49B1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654C-9A16-4B1E-873B-3320724093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FE9F-62DB-4ADD-9CC3-0408AAEF3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BEEB-FEE1-40A2-B435-6EAA3386C3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EEF2-2ED0-4CED-A71E-30921BB491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D0D3-E75E-403E-8BCA-D79A8CA587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9D63-F30C-4D23-B6DE-F1AB25647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78C8-C343-4CA8-A038-C0586D7E61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2A6A-55CE-46B0-80F2-DF4A4B8285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9F4-C220-4205-94D7-067F94A6E2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563-4922-427C-A718-8C5F971C28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FF58-F913-45E7-9302-79027CE7B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352-32E6-43DE-911D-7B422069BE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6482-6C99-410E-B1ED-5B77EF4E4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4988-7362-4C0F-957D-83699A631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768A-867D-4AF1-B5FE-171CCD3837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7CD2-B14D-4C84-8024-4139C2E1C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089-2BA0-42AA-B70F-68D7834009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42BC-7C3C-4701-BF08-53242940D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0CF8-0F0B-4EEA-8036-B0418C8C6A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7E28-8E6F-4AAC-9690-1BFF018748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DEDD-CA69-4AAA-9946-5CE00AF483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9657-8E05-40F5-928B-F3627E2EBD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1490-2316-43A7-9108-003321F40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5C7E-34FB-43F3-9B14-F0A653878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B936-EAB2-42F4-93FD-22E78F9D5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7264-E183-4703-9394-7E11522F9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16FC-3D5E-4CE3-A7F3-F26B8B727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F7AC-D1B8-4D0B-BF11-57284079D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7F29-42DA-4E52-AE90-ECA1049BE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029A-DB77-4101-B5D7-66AE91FE49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F846-F3DE-4FB2-9F91-6498816C9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0220-CF3C-47BB-96C5-72FD397354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5274-8CDE-4506-9FC4-EE60C2164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76480" y="3052800"/>
            <a:ext cx="67910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52231" descr=""/>
          <p:cNvPicPr/>
          <p:nvPr/>
        </p:nvPicPr>
        <p:blipFill>
          <a:blip r:embed="rId1"/>
          <a:stretch/>
        </p:blipFill>
        <p:spPr>
          <a:xfrm>
            <a:off x="209520" y="824040"/>
            <a:ext cx="8724960" cy="52099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"/>
          <a:stretch/>
        </p:blipFill>
        <p:spPr>
          <a:xfrm>
            <a:off x="826920" y="4422600"/>
            <a:ext cx="4969080" cy="4795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755640" y="4956120"/>
            <a:ext cx="4968720" cy="479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611280" y="5530680"/>
            <a:ext cx="4968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795240"/>
            <a:ext cx="8544240" cy="5267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067280" y="2736720"/>
            <a:ext cx="1944720" cy="479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00720" y="3227400"/>
            <a:ext cx="194436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67200" y="3946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132000" y="5300640"/>
            <a:ext cx="1440000" cy="479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364000" y="534348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61960" y="1557360"/>
            <a:ext cx="8020080" cy="3743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6659640" y="3286080"/>
            <a:ext cx="433440" cy="360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7308720" y="321300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7020000" y="393372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3637080" y="465300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4629240" y="4732200"/>
            <a:ext cx="461880" cy="343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5508720" y="4667400"/>
            <a:ext cx="792000" cy="479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6529320" y="4724280"/>
            <a:ext cx="461880" cy="343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1"/>
          <a:stretch/>
        </p:blipFill>
        <p:spPr>
          <a:xfrm>
            <a:off x="7236000" y="4653000"/>
            <a:ext cx="792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76801" descr=""/>
          <p:cNvPicPr/>
          <p:nvPr/>
        </p:nvPicPr>
        <p:blipFill>
          <a:blip r:embed="rId1"/>
          <a:stretch/>
        </p:blipFill>
        <p:spPr>
          <a:xfrm>
            <a:off x="399960" y="824040"/>
            <a:ext cx="8344080" cy="5209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000080" y="249228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971640" y="2997360"/>
            <a:ext cx="3384360" cy="4791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075280" y="200340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5032440" y="250668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5003640" y="301140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898560" y="458136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855720" y="508464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826920" y="5589720"/>
            <a:ext cx="3384720" cy="479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5003640" y="458136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2"/>
          <a:stretch/>
        </p:blipFill>
        <p:spPr>
          <a:xfrm>
            <a:off x="4960800" y="508464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3"/>
          <a:stretch/>
        </p:blipFill>
        <p:spPr>
          <a:xfrm>
            <a:off x="4932360" y="5589720"/>
            <a:ext cx="3384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8373" descr=""/>
          <p:cNvPicPr/>
          <p:nvPr/>
        </p:nvPicPr>
        <p:blipFill>
          <a:blip r:embed="rId1"/>
          <a:stretch/>
        </p:blipFill>
        <p:spPr>
          <a:xfrm>
            <a:off x="776160" y="2295360"/>
            <a:ext cx="7591680" cy="2267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755640" y="337176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698400" y="386064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4987800" y="280980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4916520" y="332892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4859280" y="3817800"/>
            <a:ext cx="324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7352" descr=""/>
          <p:cNvPicPr/>
          <p:nvPr/>
        </p:nvPicPr>
        <p:blipFill>
          <a:blip r:embed="rId1"/>
          <a:stretch/>
        </p:blipFill>
        <p:spPr>
          <a:xfrm>
            <a:off x="485640" y="28440"/>
            <a:ext cx="8172720" cy="68011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116000" y="4307040"/>
            <a:ext cx="4464000" cy="4791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1042920" y="4826160"/>
            <a:ext cx="4464000" cy="479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1116000" y="5300640"/>
            <a:ext cx="446400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1042920" y="5819760"/>
            <a:ext cx="446400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1116000" y="6350040"/>
            <a:ext cx="5904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6324" descr=""/>
          <p:cNvPicPr/>
          <p:nvPr/>
        </p:nvPicPr>
        <p:blipFill>
          <a:blip r:embed="rId1"/>
          <a:stretch/>
        </p:blipFill>
        <p:spPr>
          <a:xfrm>
            <a:off x="295200" y="1509840"/>
            <a:ext cx="8553600" cy="3838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900000" y="2247840"/>
            <a:ext cx="3743280" cy="47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900000" y="2795760"/>
            <a:ext cx="3743280" cy="479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826920" y="3327480"/>
            <a:ext cx="3743640" cy="47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826920" y="3875040"/>
            <a:ext cx="374364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6"/>
          <a:stretch/>
        </p:blipFill>
        <p:spPr>
          <a:xfrm>
            <a:off x="971640" y="4465800"/>
            <a:ext cx="374328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5300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154720" cy="65610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6804000" y="302580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6818400" y="439416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5378400" y="5805360"/>
            <a:ext cx="1224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4276" descr=""/>
          <p:cNvPicPr/>
          <p:nvPr/>
        </p:nvPicPr>
        <p:blipFill>
          <a:blip r:embed="rId1"/>
          <a:stretch/>
        </p:blipFill>
        <p:spPr>
          <a:xfrm>
            <a:off x="318960" y="262080"/>
            <a:ext cx="8506080" cy="6333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826920" y="3919680"/>
            <a:ext cx="4608720" cy="4791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900000" y="4451400"/>
            <a:ext cx="4608720" cy="479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754200" y="4998960"/>
            <a:ext cx="460836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826920" y="5530680"/>
            <a:ext cx="4608720" cy="479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826920" y="6107040"/>
            <a:ext cx="4608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2:5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